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900-36B3-430F-A8E7-7B7DDF17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BE2-2C3D-49BD-877D-8BCE22B3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199-789B-4FE7-B5FA-E61854B1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607-6043-4FBB-83E4-B2324046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2A2-BEB9-4E74-86B7-AFC9E11E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B69-D9D8-49FA-BFD6-B73860AE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E74-29C2-4550-83A7-B09827E3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D70-80EE-4185-BC59-77390C6B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75F-4AD0-4418-BD3D-C66B6337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86D-21D9-4B8D-ACA3-63CABDEF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B54-0F18-426E-8223-B1931FA3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BBA-5E6B-4330-8BF7-0CD00219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3332-AA09-4651-8CDF-BD8BD8E274C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ΦΠΑ ΑΚΙΝΗΤ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κίνητο ως πάγιο/φορολογητέα χρή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κίνητο ως πάγιο/απαλλασσόμενη χρή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αράδοση από ιδιώτη στα σχέ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»»»»»»»»»»»»»»»»  αποπερατωμέν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κίνητο + παρακολούθημα (ΦΠ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κίνητο &amp; παρακολούθημα μεταγενέστε-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ρα (ΦΠΑ).                                 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κίνητο + παρακολούθημα (ΦΜΑ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κίνητο &amp; παρακολούθημα μεταγενέστερα  με ΦΜ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κίνητο σαν Α΄ κατοικ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κίνητο σαν Α΄κατοικία (Αντιπαροχή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ΠΑ &amp; ΕΚΚΟ                                  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ΦΠΑ ΑΚΙΝΗΤ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αράδοση κτισμάτων στον οικοπεδούχ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ντελεστές ακινήτων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πολογιστικό κόστος / προσωρινό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Τίμημα / Αντικειμενική / προυπολογιστικό κόστος ??? Ειδική Δήλωση ΦΠ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ιδική Δήλωση &amp; Συμβόλαιο σε διαφορε- τική φορολογική περίοδο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3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ΦΠΑ ΑΚΙΝΗΤ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ήλωση ακίνητου στη ΔΟΥ  από τον    αγοραστή???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 συμβόλαιο  τιμή πώλησης ???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πολογιστικό με διαφορές από τον καταβληθέντα ΦΠΑ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Υποβολή απολογιστικού – διακοπή  υπο- καταστήματος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ΦΠΑ ΑΚΙΝΗΤ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ΦΠΑ ΑΚΙΝΗΤ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3:48:43Z</dcterms:created>
  <dc:creator>user</dc:creator>
  <dc:description/>
  <dc:language>en-US</dc:language>
  <cp:lastModifiedBy>user</cp:lastModifiedBy>
  <dcterms:modified xsi:type="dcterms:W3CDTF">2008-10-16T10:55:39Z</dcterms:modified>
  <cp:revision>14</cp:revision>
  <dc:subject/>
  <dc:title>ΦΠΑ ΑΚΙΝΗΤΩΝ</dc:title>
</cp:coreProperties>
</file>